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9E1F-9FC0-4715-8B3D-BE9B284A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2865-8B55-445F-BDCE-DAD0D95D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7AEC-98E8-40B0-A500-AA3E39069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E30B-6D42-408A-86B7-B2045BBB0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98D51-57DD-48DE-B6E3-FEF63953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1A5C9-AEE9-4BDB-88B6-681475AD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C5557-6119-4DFE-AF1A-6514FB7C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66294-4A6F-472F-9775-E604A4B0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55629-A355-4E9B-9172-756A4F28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21DAB-8682-407F-9B76-5360406B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A22BD-D064-458E-9F28-A1382822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A2E-F1A7-4378-A069-D7C620B2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5B47C-D616-4FD1-B7F2-EAAF9CC5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35868-42F3-4253-B424-E6F8835A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AF73B-23ED-4673-844F-C3ECB2AF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27254-D806-482A-A799-41901DD7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5DCD8-E045-47C1-BB08-8B7110AF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7B60-0163-4125-87B5-6AE09AF9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18D-898F-4D3F-B699-5D229AD3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422-A90F-4182-9530-213916B5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2C3C-E569-41DA-8CFB-BADF75EF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F23-F084-4D89-88EB-416DAB01C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4D7-4CA2-4C0E-9222-47216FFE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67D-CE7F-4245-BDF7-4684FAA7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9E1857F-8D7B-4F91-96FB-37C173973B4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13AD3DC-8C6F-48EA-B175-D664967F05D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s.wikipedia.org/wiki/Archivo:Jean-FrancoisMillet(Nadar)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8000" spc="-1" strike="noStrike">
                <a:solidFill>
                  <a:srgbClr val="ffffff"/>
                </a:solidFill>
                <a:latin typeface="Monotype Corsiva"/>
              </a:rPr>
              <a:t>REALISMO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6400800" cy="35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7c80"/>
              </a:buClr>
              <a:buSzPct val="120000"/>
              <a:buFont typeface="Monotype Corsiv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Monotype Corsiva"/>
              </a:rPr>
              <a:t>Genoveva Abán Relañ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7c80"/>
              </a:buClr>
              <a:buSzPct val="120000"/>
              <a:buFont typeface="Monotype Corsiv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Monotype Corsiva"/>
              </a:rPr>
              <a:t>Nuria Alcalá González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7c80"/>
              </a:buClr>
              <a:buSzPct val="120000"/>
              <a:buFont typeface="Monotype Corsiv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Monotype Corsiva"/>
              </a:rPr>
              <a:t>Rocío Crespo Mata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ff7c80"/>
              </a:buClr>
              <a:buSzPct val="120000"/>
              <a:buFont typeface="Monotype Corsiv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Monotype Corsiva"/>
              </a:rPr>
              <a:t>Manuel Espinosa Luqu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Monotype Corsiva"/>
              </a:rPr>
              <a:t>Millet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4027680" cy="49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intor realis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undador de la Escuela de Barbiz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taca por su escenas de campesinos y granjer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taca la inocencia del hombre campesi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48360" y="1916280"/>
            <a:ext cx="3152520" cy="400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dur="indefinite" fill="hold">
                      <p:stCondLst>
                        <p:cond delay="0"/>
                      </p:stCondLst>
                      <p:childTnLst>
                        <p:par>
                          <p:cTn id="2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dur="indefinite" fill="hold">
                      <p:stCondLst>
                        <p:cond delay="indefinite"/>
                      </p:stCondLst>
                      <p:childTnLst>
                        <p:par>
                          <p:cTn id="25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dur="indefinite" fill="hold">
                      <p:stCondLst>
                        <p:cond delay="indefinite"/>
                      </p:stCondLst>
                      <p:childTnLst>
                        <p:par>
                          <p:cTn id="2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dur="indefinite" fill="hold">
                      <p:stCondLst>
                        <p:cond delay="indefinite"/>
                      </p:stCondLst>
                      <p:childTnLst>
                        <p:par>
                          <p:cTn id="2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Monotype Corsiva"/>
              </a:rPr>
              <a:t>Índice de Contenido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7160" indent="-317160">
              <a:lnSpc>
                <a:spcPct val="100000"/>
              </a:lnSpc>
              <a:spcBef>
                <a:spcPts val="1199"/>
              </a:spcBef>
              <a:buClr>
                <a:srgbClr val="ff7c80"/>
              </a:buClr>
              <a:buSzPct val="120000"/>
              <a:buFont typeface="Monotype Corsiv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Definición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17160" indent="-317160">
              <a:lnSpc>
                <a:spcPct val="100000"/>
              </a:lnSpc>
              <a:spcBef>
                <a:spcPts val="1199"/>
              </a:spcBef>
              <a:buClr>
                <a:srgbClr val="ff7c80"/>
              </a:buClr>
              <a:buSzPct val="120000"/>
              <a:buFont typeface="Monotype Corsiv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Características del Realismo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17160" indent="-317160">
              <a:lnSpc>
                <a:spcPct val="100000"/>
              </a:lnSpc>
              <a:spcBef>
                <a:spcPts val="1199"/>
              </a:spcBef>
              <a:buClr>
                <a:srgbClr val="ff7c80"/>
              </a:buClr>
              <a:buSzPct val="120000"/>
              <a:buFont typeface="Monotype Corsiv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Influencias de la época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17160" indent="-317160">
              <a:lnSpc>
                <a:spcPct val="100000"/>
              </a:lnSpc>
              <a:spcBef>
                <a:spcPts val="1199"/>
              </a:spcBef>
              <a:buClr>
                <a:srgbClr val="ff7c80"/>
              </a:buClr>
              <a:buSzPct val="120000"/>
              <a:buFont typeface="Monotype Corsiv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El entierro de Ornans”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17160" indent="-317160">
              <a:lnSpc>
                <a:spcPct val="100000"/>
              </a:lnSpc>
              <a:spcBef>
                <a:spcPts val="1199"/>
              </a:spcBef>
              <a:buClr>
                <a:srgbClr val="ff7c80"/>
              </a:buClr>
              <a:buSzPct val="120000"/>
              <a:buFont typeface="Monotype Corsiv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es-ES_tradnl" sz="4800" spc="-1" strike="noStrike">
                <a:solidFill>
                  <a:srgbClr val="000000"/>
                </a:solidFill>
                <a:latin typeface="Monotype Corsiva"/>
              </a:rPr>
              <a:t>Las espigadoras”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171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dur="indefinite" fill="hold">
                      <p:stCondLst>
                        <p:cond delay="0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fill="hold">
                      <p:stCondLst>
                        <p:cond delay="indefinite"/>
                      </p:stCondLst>
                      <p:childTnLst>
                        <p:par>
                          <p:cTn id="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98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98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Monotype Corsiva"/>
              </a:rPr>
              <a:t>Definición del Realismo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Movimiento artístico y literario del siglo XIX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Intentó reflejar la realidad cotidiana con toda fide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SzPct val="120000"/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 opone al Romanticism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dur="indefinite" fill="hold">
                      <p:stCondLst>
                        <p:cond delay="0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dur="indefinite" fill="hold">
                      <p:stCondLst>
                        <p:cond delay="indefinite"/>
                      </p:stCondLst>
                      <p:childTnLst>
                        <p:par>
                          <p:cTn id="1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dur="indefinite" fill="hold">
                      <p:stCondLst>
                        <p:cond delay="indefinite"/>
                      </p:stCondLst>
                      <p:childTnLst>
                        <p:par>
                          <p:cTn id="1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Monotype Corsiva"/>
              </a:rPr>
              <a:t>Características</a:t>
            </a:r>
            <a:r>
              <a:rPr b="0" lang="es-ES_tradnl" sz="4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es-ES_tradnl" sz="6000" spc="-1" strike="noStrike">
                <a:solidFill>
                  <a:srgbClr val="ffffff"/>
                </a:solidFill>
                <a:latin typeface="Monotype Corsiva"/>
              </a:rPr>
              <a:t>del Realismo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Búsqueda de la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realidad cotidiana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spcBef>
                <a:spcPts val="799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pacidad de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 observ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spcBef>
                <a:spcPts val="799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l autor busca la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objetividad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7680" indent="-337680">
              <a:spcBef>
                <a:spcPts val="799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lasman </a:t>
            </a: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temas de su propia époc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dur="indefinite" fill="hold">
                      <p:stCondLst>
                        <p:cond delay="0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dur="indefinite" fill="hold">
                      <p:stCondLst>
                        <p:cond delay="indefinite"/>
                      </p:stCondLst>
                      <p:childTnLst>
                        <p:par>
                          <p:cTn id="1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dur="indefinite" fill="hold">
                      <p:stCondLst>
                        <p:cond delay="indefinite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Monotype Corsiva"/>
              </a:rPr>
              <a:t>El entierro de Ornans</a:t>
            </a:r>
            <a:br>
              <a:rPr sz="5400"/>
            </a:br>
            <a:r>
              <a:rPr b="0" lang="es-ES_tradnl" sz="5400" spc="-1" strike="noStrike">
                <a:solidFill>
                  <a:srgbClr val="ffffff"/>
                </a:solidFill>
                <a:latin typeface="Monotype Corsiva"/>
              </a:rPr>
              <a:t>(</a:t>
            </a:r>
            <a:r>
              <a:rPr b="0" lang="es-ES_tradnl" sz="4000" spc="-1" strike="noStrike">
                <a:solidFill>
                  <a:srgbClr val="ffffff"/>
                </a:solidFill>
                <a:latin typeface="Monotype Corsiva"/>
              </a:rPr>
              <a:t>Courbet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8451720" cy="3936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dur="indefinite" fill="hold">
                      <p:stCondLst>
                        <p:cond delay="0"/>
                      </p:stCondLst>
                      <p:childTnLst>
                        <p:par>
                          <p:cTn id="1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 fill="hold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Monotype Corsiva"/>
              </a:rPr>
              <a:t>Características del cuadro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0720" y="1800000"/>
            <a:ext cx="728352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rcó el nacimiento del Realism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inta el entierro de un campesin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s mujeres aparecen separadas de los hombr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lnSpc>
                <a:spcPct val="90000"/>
              </a:lnSpc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osición geométrica: contracta la línea del horizonte con la de los pies de las perso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20720" y="3600360"/>
            <a:ext cx="6840720" cy="2997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dur="indefinite" fill="hold">
                      <p:stCondLst>
                        <p:cond delay="0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dur="indefinite" fill="hold">
                      <p:stCondLst>
                        <p:cond delay="indefinite"/>
                      </p:stCondLst>
                      <p:childTnLst>
                        <p:par>
                          <p:cTn id="1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dur="indefinite" fill="hold">
                      <p:stCondLst>
                        <p:cond delay="indefinite"/>
                      </p:stCondLst>
                      <p:childTnLst>
                        <p:par>
                          <p:cTn id="1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Monotype Corsiva"/>
              </a:rPr>
              <a:t>Courbet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spcBef>
                <a:spcPts val="700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intor francé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08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spcBef>
                <a:spcPts val="700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undador y máximo representante del realism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08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0840" indent="-330840">
              <a:spcBef>
                <a:spcPts val="700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mprometido activista democrátic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08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08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859280" y="1916280"/>
            <a:ext cx="3333960" cy="3990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dur="indefinite" fill="hold">
                      <p:stCondLst>
                        <p:cond delay="0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dur="indefinite" fill="hold">
                      <p:stCondLst>
                        <p:cond delay="indefinite"/>
                      </p:stCondLst>
                      <p:childTnLst>
                        <p:par>
                          <p:cTn id="19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dur="indefinite" fill="hold">
                      <p:stCondLst>
                        <p:cond delay="indefinite"/>
                      </p:stCondLst>
                      <p:childTnLst>
                        <p:par>
                          <p:cTn id="1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960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Monotype Corsiva"/>
              </a:rPr>
              <a:t>Las espigadoras</a:t>
            </a:r>
            <a:br>
              <a:rPr sz="5400"/>
            </a:br>
            <a:r>
              <a:rPr b="0" lang="es-ES_tradnl" sz="4000" spc="-1" strike="noStrike">
                <a:solidFill>
                  <a:srgbClr val="ffffff"/>
                </a:solidFill>
                <a:latin typeface="Monotype Corsiva"/>
              </a:rPr>
              <a:t>(Millet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92360" y="1700280"/>
            <a:ext cx="6032520" cy="4832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dur="indefinite" fill="hold">
                      <p:stCondLst>
                        <p:cond delay="0"/>
                      </p:stCondLst>
                      <p:childTnLst>
                        <p:par>
                          <p:cTn id="20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0400" y="-179280"/>
            <a:ext cx="82296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Monotype Corsiva"/>
              </a:rPr>
              <a:t>Comentario del cuadro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11120" y="144000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resenta la pobreza de unas campesi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estra la fatiga de recoger las sobras de las cosech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levan vestimenta típica normand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Clr>
                <a:srgbClr val="ff7c8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l fondo se encuentran los almiares, una carreta cargada y, más lejos, las casa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36840" y="3959280"/>
            <a:ext cx="4762440" cy="287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dur="indefinite" fill="hold">
                      <p:stCondLst>
                        <p:cond delay="0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dur="indefinite" fill="hold">
                      <p:stCondLst>
                        <p:cond delay="indefinite"/>
                      </p:stCondLst>
                      <p:childTnLst>
                        <p:par>
                          <p:cTn id="2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7:36:15Z</dcterms:created>
  <dc:creator>NURIA</dc:creator>
  <dc:description/>
  <dc:language>en-US</dc:language>
  <cp:lastModifiedBy>NURIA</cp:lastModifiedBy>
  <dcterms:modified xsi:type="dcterms:W3CDTF">2011-01-21T17:38:03Z</dcterms:modified>
  <cp:revision>6</cp:revision>
  <dc:subject/>
  <dc:title>REALISMO</dc:title>
</cp:coreProperties>
</file>